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8.jpeg" ContentType="image/jpeg"/>
  <Override PartName="/ppt/media/image30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5.wmf" ContentType="image/x-wmf"/>
  <Override PartName="/ppt/media/image16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9587-9AE4-46A8-A174-CB62D594D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E4AD-2AE4-4B08-9E87-229131C54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A11E-F32D-402E-8096-E4FE36628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8FE3-06E3-4D8E-B485-92FA50DB2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432B-4A00-44F9-9F72-7E09F835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BAD5-8C08-4B94-A103-F81698B2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D120-9BBF-4FB8-9123-F78EC6988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DA76-B5D9-4983-B507-1301799E1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F226-A374-4206-AEB8-DF15411E5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EA6B-1B02-4FC1-894E-D05C2E2C6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tists usually use the metric system in their work. This system is easy to use because it is based on multiples of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6024-9A2B-481F-868D-8F7C1CA65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399D-1422-4DAA-B602-D682E78D2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9032-46BC-413F-B669-907213D6D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E0A7-3F1F-406E-9A6B-657ADBAB9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D11E-D4B1-4B60-B992-AC19F87F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0DB0-FFE3-4E0B-9196-EA4C1E67F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1553-A084-408F-88B4-8CC1EC3CF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0EE8-02AB-4ED7-B948-974DE7A8D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4C9A-40B0-4026-B5FF-D87D7E761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14E1-948F-45B2-9B86-01FD080AF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3E94-2C28-4AD4-B88A-8FFE328CC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6496-FF65-40A7-9FFA-F4D9C764E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ing things may be studied on many different leve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largest and most complex level is the biosphere. The smallest level is the molecules that make up living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317-5A7D-4C4A-ADB6-7ADBFA34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3FC-A9DC-46A5-ACD6-1ACF0103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590-A701-4E72-8A89-3A14545E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CAB-98D2-4580-9E59-9110DB77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E416-30F7-4F12-ADE2-1BE02EEC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D276-A87A-4A89-8A13-08334DCD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FC32-B7BF-4146-A86A-43B03CA7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FC4B-CA92-4F44-BCF3-7FFE6908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5754-F155-4AA2-9F08-D6FA5243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FBD1-8BF2-459D-959A-DF2E5E10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6941-3DEC-41C6-8D43-B7607890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ED6-261A-40AD-8058-F751B216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F3CF-169A-4198-9DEB-F423789B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6F4C-A9F7-4239-A1AD-7021DDF0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A14D-2EA9-4103-8F2F-CC515D96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907C-2D10-4195-9CC6-0CC1378F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5DF2-77D2-49D6-B1E3-6E604A3D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62D2-B5F7-4B10-8ED9-BC7A4353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CC8C-1C8F-474F-B8D3-9E5D6F00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F682-B085-4174-9DAB-40D6EC84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E278-634B-4423-A369-BFEA6DF8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E391-5D25-47DF-86C4-B070AD3C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81E-EBBD-46EC-B255-44738494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684D-CC69-4B82-B7D0-57C0BE69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FF885-3101-467F-B6E4-A1FEED4B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2F11-68A6-4C09-97F9-7AC415E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6171-B169-4DD4-82A7-52F1141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C520-13A6-4D92-9122-C228B14B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DED2-8744-486B-9DC3-AB3253F1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A5E3-A2A6-4248-8E43-1349E7A2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46DD-B64F-484D-A4C7-C6BBDBE7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98845-B1C0-43B1-93FF-C0A451FB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5E967-4886-4601-821D-E61E1918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8A6-09CA-45EF-B405-21DEB45C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7AC3-1E28-49E4-8D65-81734D6A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8830-35E6-44D5-A4CC-323DDB5E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7EED-A1B2-43AD-A20B-B153D778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79D0C-0FA2-4EE4-9874-5BE89A17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8BB8-A1C5-40D1-8CBF-2CA11D54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DFDB5-C09B-43F6-ACDB-0D864499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27FC-B191-4BD1-8065-890BB12E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73456-13A5-442A-A6FA-C838FA95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66AF-BE10-41F0-9144-E89A249C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47F-CDED-46A9-B128-070133B7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1DB-10A3-4C80-BD96-CD0E0A86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6C7-605F-4406-9E83-BDDDC984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4E8-3A6B-4578-904E-7D17BF5A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B0E-6845-434A-A9FD-7149E46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5292-F448-4188-9464-597DC1D513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5B8E-199E-4C81-8529-569D8A696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udying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udying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3871-7D53-4E24-9B3C-EB7B938122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2DC3-3129-4B91-AE08-FEAE576AE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91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udying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FB3E-9E2D-432F-AC15-3433E72CE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sp>
        <p:nvSpPr>
          <p:cNvPr id="13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udying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0CA2-D1F1-4D04-9D6B-131693D64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ell Rin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e the following ter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Variable: 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 Variable: 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living 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sb4938f1_05"/>
          <p:cNvPicPr/>
          <p:nvPr/>
        </p:nvPicPr>
        <p:blipFill>
          <a:blip r:embed="rId1"/>
          <a:stretch/>
        </p:blipFill>
        <p:spPr>
          <a:xfrm>
            <a:off x="271440" y="2666880"/>
            <a:ext cx="8629560" cy="26402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4161240" y="5904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9" descr="sb4938f1_04"/>
          <p:cNvPicPr/>
          <p:nvPr/>
        </p:nvPicPr>
        <p:blipFill>
          <a:blip r:embed="rId1"/>
          <a:stretch/>
        </p:blipFill>
        <p:spPr>
          <a:xfrm>
            <a:off x="225360" y="2682720"/>
            <a:ext cx="8629560" cy="2640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of organisms of one type that live in the sam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872880" y="53910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on h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s that live together in a defined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6" descr="sb4938f1_03"/>
          <p:cNvPicPr/>
          <p:nvPr/>
        </p:nvPicPr>
        <p:blipFill>
          <a:blip r:embed="rId1"/>
          <a:stretch/>
        </p:blipFill>
        <p:spPr>
          <a:xfrm>
            <a:off x="182520" y="2685960"/>
            <a:ext cx="8718480" cy="25909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2317320" y="530856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wk, snake, bison, prairie dog, 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4216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and its nonliving surrou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6" descr="sb4938f1_02"/>
          <p:cNvPicPr/>
          <p:nvPr/>
        </p:nvPicPr>
        <p:blipFill>
          <a:blip r:embed="rId1"/>
          <a:stretch/>
        </p:blipFill>
        <p:spPr>
          <a:xfrm>
            <a:off x="257040" y="2703600"/>
            <a:ext cx="8629920" cy="26384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1317960" y="5380200"/>
            <a:ext cx="65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wk, snake, bison, prairie dog, grass, stream, rocks,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t of Earth that contains all eco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2" descr="sb4938f1_01"/>
          <p:cNvPicPr/>
          <p:nvPr/>
        </p:nvPicPr>
        <p:blipFill>
          <a:blip r:embed="rId1"/>
          <a:stretch/>
        </p:blipFill>
        <p:spPr>
          <a:xfrm>
            <a:off x="328680" y="2698920"/>
            <a:ext cx="8372520" cy="2763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 Common Measurement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2520" y="1371240"/>
            <a:ext cx="8269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scientists u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ric syste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collecting data and performing experi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4368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 Common Measurement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ric system is based on multiples of 10 so it is easy to u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0" y="2552760"/>
            <a:ext cx="2870280" cy="4305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rcRect l="8633" t="22384" r="0" b="0"/>
          <a:stretch/>
        </p:blipFill>
        <p:spPr>
          <a:xfrm>
            <a:off x="3705120" y="3479760"/>
            <a:ext cx="47800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 Common Measurement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5" descr="sb4939f1"/>
          <p:cNvPicPr/>
          <p:nvPr/>
        </p:nvPicPr>
        <p:blipFill>
          <a:blip r:embed="rId1"/>
          <a:stretch/>
        </p:blipFill>
        <p:spPr>
          <a:xfrm>
            <a:off x="304920" y="1752480"/>
            <a:ext cx="864216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Measured in degrees Cels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Measured with a thermome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8387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91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in liters (usually millilit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with a Graduated Cyli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the volume at the meniscus (Bottom of cur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use%20a%20cylinder%20right.MPG" descr=""/>
          <p:cNvPicPr/>
          <p:nvPr/>
        </p:nvPicPr>
        <p:blipFill>
          <a:blip r:embed="rId1"/>
          <a:stretch/>
        </p:blipFill>
        <p:spPr>
          <a:xfrm>
            <a:off x="5943600" y="990720"/>
            <a:ext cx="2570040" cy="2079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ttp://upload.wikimedia.org/wikipedia/commons/4/4e/Meniscus.jpg"/>
          <p:cNvPicPr/>
          <p:nvPr/>
        </p:nvPicPr>
        <p:blipFill>
          <a:blip r:embed="rId2"/>
          <a:stretch/>
        </p:blipFill>
        <p:spPr>
          <a:xfrm>
            <a:off x="6248520" y="3276720"/>
            <a:ext cx="2004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ell Rin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72520" y="1600200"/>
            <a:ext cx="829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do scientists all around the world use the metric system when they do experi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Leng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in meters (also commonly measured in centimet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with a ruler, meter stick, or measuring tap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 rot="18942000">
            <a:off x="2476080" y="3809520"/>
            <a:ext cx="6667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in 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d with a digital scale or a four beam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095720" cy="2590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3632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Microsc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croscop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devices that produce magnified images of structures that are too small to see with the unaided ey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1512720" y="3316320"/>
            <a:ext cx="2014560" cy="3541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4192560" y="2971800"/>
            <a:ext cx="40608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Microsc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72880" y="1523880"/>
            <a:ext cx="8547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ight Microsco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ly used microscope is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ght microsco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 microscopes produce clear images of objects at a magnific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bout 1000 ti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15382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Microsc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und light microscop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ow light to pass through the specimen and use two lenses to form an i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0145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Microsco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72880" y="1676520"/>
            <a:ext cx="854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Electron Microsco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cientists need to study even smaller objects, scientists us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 microscop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ing electron microscopes the specimen must be preserved and dehydrated before they are placed in the microscop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7010280" y="4038480"/>
            <a:ext cx="1908360" cy="2335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2222640" cy="2041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3"/>
          <a:stretch/>
        </p:blipFill>
        <p:spPr>
          <a:xfrm>
            <a:off x="6781680" y="0"/>
            <a:ext cx="2357640" cy="1935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http://upload.wikimedia.org/wikipedia/commons/a/a4/Misc_pollen.jpg"/>
          <p:cNvPicPr/>
          <p:nvPr/>
        </p:nvPicPr>
        <p:blipFill>
          <a:blip r:embed="rId4"/>
          <a:stretch/>
        </p:blipFill>
        <p:spPr>
          <a:xfrm>
            <a:off x="3276720" y="4191120"/>
            <a:ext cx="3124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981000" y="357984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aboratory Techn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ell 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ngle cell is able to reproduce to form a group of cells, called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ll cul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4419720" y="3505320"/>
            <a:ext cx="35240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ell Rin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2520" y="1599840"/>
            <a:ext cx="8293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4 scientific attitudes that all scientists have in comm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 Studying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aily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the characteristics that all living things sh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central themes of bi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in how life can be studied at different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 levels at which life can be studie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s of atoms; smallest unit of most chemical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2" descr="sb4938f1_08"/>
          <p:cNvPicPr/>
          <p:nvPr/>
        </p:nvPicPr>
        <p:blipFill>
          <a:blip r:embed="rId1"/>
          <a:stretch/>
        </p:blipFill>
        <p:spPr>
          <a:xfrm>
            <a:off x="243000" y="2685960"/>
            <a:ext cx="8629560" cy="2640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3"/>
          <p:cNvSpPr/>
          <p:nvPr/>
        </p:nvSpPr>
        <p:spPr>
          <a:xfrm>
            <a:off x="2719440" y="4879800"/>
            <a:ext cx="44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                                         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5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st functional unit of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sb4938f1_07"/>
          <p:cNvPicPr/>
          <p:nvPr/>
        </p:nvPicPr>
        <p:blipFill>
          <a:blip r:embed="rId1"/>
          <a:stretch/>
        </p:blipFill>
        <p:spPr>
          <a:xfrm>
            <a:off x="285840" y="2681280"/>
            <a:ext cx="8629560" cy="2639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3914640" y="48895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evels of Stu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oups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ssues, organs, and organ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3" descr="sb4938f1_06"/>
          <p:cNvPicPr/>
          <p:nvPr/>
        </p:nvPicPr>
        <p:blipFill>
          <a:blip r:embed="rId1"/>
          <a:stretch/>
        </p:blipFill>
        <p:spPr>
          <a:xfrm>
            <a:off x="257040" y="2689200"/>
            <a:ext cx="8629920" cy="2639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4"/>
          <p:cNvSpPr/>
          <p:nvPr/>
        </p:nvSpPr>
        <p:spPr>
          <a:xfrm>
            <a:off x="977760" y="4808520"/>
            <a:ext cx="73756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ous tissue                     Brain                      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8" descr=""/>
          <p:cNvPicPr/>
          <p:nvPr/>
        </p:nvPicPr>
        <p:blipFill>
          <a:blip r:embed="rId2"/>
          <a:stretch/>
        </p:blipFill>
        <p:spPr>
          <a:xfrm>
            <a:off x="125280" y="2662200"/>
            <a:ext cx="8893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8:45:33Z</dcterms:created>
  <dc:creator>Alex</dc:creator>
  <dc:description/>
  <dc:language>en-US</dc:language>
  <cp:lastModifiedBy>dzahm</cp:lastModifiedBy>
  <dcterms:modified xsi:type="dcterms:W3CDTF">2013-09-17T14:43:29Z</dcterms:modified>
  <cp:revision>135</cp:revision>
  <dc:subject/>
  <dc:title>Slide 1</dc:title>
</cp:coreProperties>
</file>